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41D-AA07-4F3E-870E-04D755B1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023-6D57-4DEC-97AC-54D71BED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1EA-B3DF-4EE3-A33C-924E6AC8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91D-785F-4BEB-A81A-D07A9467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C5B-4C1A-4266-BD8D-F1D3EF52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A25-C1C8-4841-8CE3-86E81FEE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064-1876-4C70-B4B6-1FD15642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451-5423-44C8-9247-209B0D9A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863-34F8-478E-96AA-AA81C559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193-AC4E-4F07-9F17-C811DF57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51B-333B-4BEA-A7C7-43C19611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54D-2809-4EDE-A1E1-6E35030C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0544-1FBB-45EF-8991-31503223F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533520"/>
            <a:ext cx="495324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Our schoo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y Andrew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logo1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33526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school is Glenb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prim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ot an outdoor class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Da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Rob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Matth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Dick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To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.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ide 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have a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have a harmony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ig 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ig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have a computer sw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off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hanging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kitc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8:45:23Z</dcterms:created>
  <dc:creator>Glenboi</dc:creator>
  <dc:description/>
  <dc:language>en-US</dc:language>
  <cp:lastModifiedBy>Glenboi</cp:lastModifiedBy>
  <dcterms:modified xsi:type="dcterms:W3CDTF">2009-09-30T08:46:06Z</dcterms:modified>
  <cp:revision>1</cp:revision>
  <dc:subject/>
  <dc:title>PowerPoint Presentation</dc:title>
</cp:coreProperties>
</file>